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C6A-3332-4796-8175-46E8A420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8FC9-B61B-4A78-9919-51C5677B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36F-2BE5-4FBF-B1D8-02252EED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B15-B5C7-4DC8-9513-88C65352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5828-6F91-4A74-8E2A-D9EB0A1A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2C11-70BC-4BCB-9C3A-06FF598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55B9-96F1-432B-AC5B-36545797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E0EA-9CE8-4D8E-B19F-1190B541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FCF4-98B7-413F-A0E2-31EF5B19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C97C-D8C6-4212-A7AB-97FE5933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354D-EC62-4C1D-8BF2-B323AAF1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00A-2D81-4F01-8CC6-EF6524BE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92E7-42BE-498B-BA01-156806F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549-F671-449F-95EE-4AFFB346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3D4C-22F2-490A-A797-B4C75D28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8088-B08C-49F7-B449-75DADBD8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0A1CA-E63C-447E-B54C-1E1605C6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9D-41EF-4680-B868-533C4BA6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6FA4-9944-4261-85FD-BC5AD6C8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60B-7B50-43AD-864C-F3DF912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C50-0243-4CBD-8A06-258311E3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623E-6BF1-4603-822D-F93F7AC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3E-D8F7-413C-AB4B-631685F4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60E3-939D-4FB0-BD25-FDB909D4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9E46-DA02-4DE0-85CF-A1431E30D23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EC07-9C60-4841-9BE0-79C1BBD5685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 3R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om 5C16, Pevensey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9720" y="725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77680" y="239040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K, so now we know what a (Hidden) Markov Model is, and how to learn its parameters, but how is this all relevant to Cognitive/Computer Vision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H)MMs are generative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sual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example visual task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3960" y="772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2)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mple case study: Visual task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seq1" descr=""/>
          <p:cNvPicPr/>
          <p:nvPr/>
        </p:nvPicPr>
        <p:blipFill>
          <a:blip r:embed="rId1"/>
          <a:stretch/>
        </p:blipFill>
        <p:spPr>
          <a:xfrm>
            <a:off x="5181480" y="2514600"/>
            <a:ext cx="2971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838080" y="2514600"/>
            <a:ext cx="3809880" cy="3733560"/>
            <a:chOff x="838080" y="2514600"/>
            <a:chExt cx="3809880" cy="3733560"/>
          </a:xfrm>
        </p:grpSpPr>
        <p:sp>
          <p:nvSpPr>
            <p:cNvPr id="147" name=""/>
            <p:cNvSpPr/>
            <p:nvPr/>
          </p:nvSpPr>
          <p:spPr>
            <a:xfrm>
              <a:off x="236196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388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00040" y="40384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1960" y="487656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61960" y="320040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4190760"/>
              <a:ext cx="533160" cy="381240"/>
            </a:xfrm>
            <a:prstGeom prst="leftArrow">
              <a:avLst>
                <a:gd name="adj1" fmla="val 50000"/>
                <a:gd name="adj2" fmla="val 34962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4190760"/>
              <a:ext cx="609480" cy="381240"/>
            </a:xfrm>
            <a:prstGeom prst="right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4240" y="2514600"/>
              <a:ext cx="381240" cy="533160"/>
            </a:xfrm>
            <a:prstGeom prst="upArrow">
              <a:avLst>
                <a:gd name="adj1" fmla="val 50000"/>
                <a:gd name="adj2" fmla="val 34962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240" y="563868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317120" y="559116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1880" y="75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3)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ample sequence 1 generated by HMM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observed states &amp; 14 hidden stat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1958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12520" y="788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tive modelling (4)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xample sequence 2 generated by HMM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5 observed states &amp; 14 hidden stat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2102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74360" y="801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ochastic sampl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0480" y="2330280"/>
            <a:ext cx="7608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generate a sequence from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starting state according to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t=1: 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) using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 (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rt of th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ellis compu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ccording to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) using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an output symbo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ccording 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strib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_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1880" y="742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 - 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5800" y="258912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al issues in computing the Baum Welch re-estimation formula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ing the number of hidden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nerative modelling and stochastic samp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1520" y="755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55800" y="2271600"/>
            <a:ext cx="80229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t random (subject to probability constrain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41480" y="4971960"/>
          <a:ext cx="3276360" cy="175716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799160" y="3483000"/>
          <a:ext cx="3886200" cy="2158920"/>
        </p:xfrm>
        <a:graphic>
          <a:graphicData uri="http://schemas.openxmlformats.org/drawingml/2006/table">
            <a:tbl>
              <a:tblPr/>
              <a:tblGrid>
                <a:gridCol w="990720"/>
                <a:gridCol w="952560"/>
                <a:gridCol w="971640"/>
                <a:gridCol w="97128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 rot="16200000">
            <a:off x="3771360" y="430380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9120" y="30877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62280" y="55785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12840" y="459108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400" y="57657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800" y="540072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72480" y="615168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31360" y="3990960"/>
            <a:ext cx="5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3720" y="457200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50800" y="51246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04960" y="3629160"/>
          <a:ext cx="3276360" cy="730080"/>
        </p:xfrm>
        <a:graphic>
          <a:graphicData uri="http://schemas.openxmlformats.org/drawingml/2006/table">
            <a:tbl>
              <a:tblPr/>
              <a:tblGrid>
                <a:gridCol w="819000"/>
                <a:gridCol w="819000"/>
                <a:gridCol w="819360"/>
                <a:gridCol w="819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849320" y="32241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16880" y="391464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Symbol"/>
                <a:ea typeface="Symbol"/>
              </a:rPr>
              <a:t>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=1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29720" y="7408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6880" y="231444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ant to be able to calculat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35160" y="2906640"/>
                <a:ext cx="5083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003320" y="4133880"/>
            <a:ext cx="77817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es from forwards eval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j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mes from backwards evalu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initial values f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O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do we need t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8172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39600" y="237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ut do we need t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30320" y="3060720"/>
                <a:ext cx="59436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092240" y="450864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normalising const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is the same value for all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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(i,j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for any individual iter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191880" indent="-191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ignor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O|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we re-normalis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he end of the re-estim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3880" y="69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1400" y="228564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all the Scaling Factor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the previous seminar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3680" y="44197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nded to prevent arithmetic underflow when calculating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using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 and apply the same factors to th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rellis.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F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hink why 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379680" y="3429000"/>
                <a:ext cx="20574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ing the BW parameters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17200" y="2989440"/>
            <a:ext cx="80773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erything else should now be straightforward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pt … how to choose the number of hidden nodes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15680" y="72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3280" y="2317680"/>
            <a:ext cx="8051760" cy="43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actual complexity of the underlying t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o many nod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ver learning and lack of generalisation capability (model learns precisely only those patterns that occur i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o few nod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over generalisation (model has now adequately captured the dynamics of the underlying task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problem as deciding how many hidden nodes there should be for a neural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90200" y="696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483560" y="2470320"/>
            <a:ext cx="6507360" cy="4269600"/>
            <a:chOff x="1483560" y="2470320"/>
            <a:chExt cx="6507360" cy="4269600"/>
          </a:xfrm>
        </p:grpSpPr>
        <p:sp>
          <p:nvSpPr>
            <p:cNvPr id="132" name=""/>
            <p:cNvSpPr/>
            <p:nvPr/>
          </p:nvSpPr>
          <p:spPr>
            <a:xfrm>
              <a:off x="2021040" y="2775240"/>
              <a:ext cx="0" cy="34290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21040" y="6204240"/>
              <a:ext cx="525780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407520" y="4165560"/>
              <a:ext cx="249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Log Likelihood / symbol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61480" y="6280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3840" y="2546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83560" y="5747040"/>
              <a:ext cx="51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-</a:t>
              </a:r>
              <a:r>
                <a:rPr b="0" lang="en-US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44720" y="2775240"/>
              <a:ext cx="763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25960" y="3117960"/>
              <a:ext cx="4190760" cy="2857680"/>
            </a:xfrm>
            <a:custGeom>
              <a:avLst/>
              <a:gdLst/>
              <a:ahLst/>
              <a:rect l="l" t="t" r="r" b="b"/>
              <a:pathLst>
                <a:path w="2640" h="1800">
                  <a:moveTo>
                    <a:pt x="0" y="1800"/>
                  </a:moveTo>
                  <a:cubicBezTo>
                    <a:pt x="136" y="1336"/>
                    <a:pt x="272" y="872"/>
                    <a:pt x="432" y="600"/>
                  </a:cubicBezTo>
                  <a:cubicBezTo>
                    <a:pt x="592" y="328"/>
                    <a:pt x="688" y="264"/>
                    <a:pt x="960" y="168"/>
                  </a:cubicBezTo>
                  <a:cubicBezTo>
                    <a:pt x="1232" y="72"/>
                    <a:pt x="1784" y="48"/>
                    <a:pt x="2064" y="24"/>
                  </a:cubicBezTo>
                  <a:cubicBezTo>
                    <a:pt x="2344" y="0"/>
                    <a:pt x="2492" y="12"/>
                    <a:pt x="2640" y="24"/>
                  </a:cubicBezTo>
                </a:path>
              </a:pathLst>
            </a:custGeom>
            <a:noFill/>
            <a:ln w="158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1280" y="2470320"/>
              <a:ext cx="314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Little additional performance with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increasing </a:t>
              </a:r>
              <a:r>
                <a:rPr b="0" i="1" lang="en-US" sz="1600" spc="-1" strike="noStrike">
                  <a:solidFill>
                    <a:srgbClr val="003366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9652400">
              <a:off x="2556360" y="3232080"/>
              <a:ext cx="137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Arial"/>
                </a:rPr>
                <a:t>Optimal point</a:t>
              </a:r>
              <a:endParaRPr b="0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1:01:03Z</dcterms:created>
  <dc:creator>Sage</dc:creator>
  <dc:description/>
  <dc:language>en-US</dc:language>
  <cp:lastModifiedBy>Sage</cp:lastModifiedBy>
  <dcterms:modified xsi:type="dcterms:W3CDTF">2005-03-08T18:03:15Z</dcterms:modified>
  <cp:revision>44</cp:revision>
  <dc:subject/>
  <dc:title>Markov Models - Seminar</dc:title>
</cp:coreProperties>
</file>